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E33B-03FB-4312-91CA-C58D642AB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63DE-080C-4ACF-8E0B-E4F25C29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3198-B2BB-430A-B886-F971AD529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3748-AE10-43C9-B952-39AEB5F0B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E878-00CF-4A8E-B61B-7BF7D239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B623-CE70-4A66-8D67-5D770460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9C2A-0EDF-4659-B926-B8663708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77C6-93C5-4F30-A7BA-9B1B9015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1859-9ECF-403B-9D24-91A552F8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E1F1-EBF7-4144-ACD2-E2D574FF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5D78-B23B-4509-AF90-C32B899D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97BB-59CA-4C14-B188-DA9C6F5D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3660-67E6-424D-AC4B-36828DC23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0"/>
            <a:ext cx="74678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Kunstler Script"/>
              </a:rPr>
              <a:t>Paradise Resorts</a:t>
            </a:r>
            <a:endParaRPr b="0" lang="en-US" sz="9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Kunstler Script"/>
              <a:ea typeface="Kunstler Script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019920"/>
            <a:ext cx="6172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doni MT Poster Compressed"/>
              </a:rPr>
              <a:t>Where your dreams become reali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9900"/>
                </a:solidFill>
                <a:latin typeface="Brush Script MT"/>
              </a:rPr>
              <a:t>New Cabana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Elephant"/>
              </a:rPr>
              <a:t>Great for parties of any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Elephant"/>
              </a:rPr>
              <a:t>Reu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Elephant"/>
              </a:rPr>
              <a:t>Birth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Elephan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Elephant"/>
              </a:rPr>
              <a:t>Special Occa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800600" y="3200400"/>
            <a:ext cx="4114800" cy="3124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0" y="304920"/>
            <a:ext cx="5791320" cy="180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oudy Stout"/>
              </a:rPr>
              <a:t>New Pool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oudy Stout"/>
              <a:ea typeface="Goudy Stout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505320" y="2209680"/>
            <a:ext cx="5638680" cy="4648320"/>
          </a:xfrm>
          <a:prstGeom prst="rect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</p:pic>
      <p:sp>
        <p:nvSpPr>
          <p:cNvPr id="48" name=""/>
          <p:cNvSpPr/>
          <p:nvPr/>
        </p:nvSpPr>
        <p:spPr>
          <a:xfrm>
            <a:off x="0" y="2895480"/>
            <a:ext cx="35053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wly rebuilt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ab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hairs and tables available for 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servations can also be 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0"/>
            <a:ext cx="54864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Monotype Corsiva"/>
              </a:rPr>
              <a:t>Snorkeling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267080" y="3067200"/>
            <a:ext cx="4876920" cy="379080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5257800" y="1143000"/>
            <a:ext cx="3886200" cy="16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ritannic Bold"/>
              </a:rPr>
              <a:t>Snorkeling is included in our all access Touring Pack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ritannic Bold"/>
              </a:rPr>
              <a:t>Swim the waters with over 500 different species and types of fish and aquatic creat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3616200"/>
            <a:ext cx="4114800" cy="324180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04920" y="1143000"/>
            <a:ext cx="6076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erlin Sans FB Demi"/>
              </a:rPr>
              <a:t>Restraunts and Ba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erlin Sans FB Demi"/>
              <a:ea typeface="Berlin Sans FB Dem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 rot="21084600">
            <a:off x="5562720" y="3580920"/>
            <a:ext cx="3200400" cy="2854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685800" y="380880"/>
            <a:ext cx="461016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009999"/>
                    </a:gs>
                  </a:gsLst>
                  <a:lin ang="5400000"/>
                </a:gradFill>
                <a:latin typeface="Times New Roman"/>
              </a:rPr>
              <a:t>Home to some of the be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00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299400">
            <a:off x="5257800" y="1752480"/>
            <a:ext cx="3886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Fun, entertaining night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Family frien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 rot="20494800">
            <a:off x="228600" y="2438280"/>
            <a:ext cx="3276720" cy="2621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 rot="885000">
            <a:off x="2362320" y="4343400"/>
            <a:ext cx="2819160" cy="226692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 rot="20958600">
            <a:off x="0" y="3556080"/>
            <a:ext cx="4952880" cy="3301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 rot="744600">
            <a:off x="4800240" y="533520"/>
            <a:ext cx="4114800" cy="2773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304920"/>
            <a:ext cx="40384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orte"/>
              </a:rPr>
              <a:t>The most unique and luxurious 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orte"/>
              </a:rPr>
              <a:t>Hundreds of styles, looks, shapes and sizes to fit your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4120" y="3505320"/>
            <a:ext cx="3200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ristina"/>
              </a:rPr>
              <a:t>Voted #1 best hotel by Forbes magaz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ristina"/>
              </a:rPr>
              <a:t>Voted best service and best rooms by Travel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191120" y="4952880"/>
            <a:ext cx="49528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ritannic Bold"/>
              </a:rPr>
              <a:t>Most of our repeat customers are avid boa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ritannic Bold"/>
              </a:rPr>
              <a:t>They have been boating here for many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ritannic Bold"/>
              </a:rPr>
              <a:t>We have some of the calmest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ritannic Bold"/>
              </a:rPr>
              <a:t>most abundant waters ar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 rot="21100800">
            <a:off x="380520" y="2286000"/>
            <a:ext cx="3214800" cy="4343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 rot="619800">
            <a:off x="3619080" y="457200"/>
            <a:ext cx="5524560" cy="2705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304920" y="304920"/>
            <a:ext cx="5172120" cy="14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erlin Sans FB"/>
              </a:rPr>
              <a:t>Boating and Fishing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bf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erlin Sans FB"/>
              <a:ea typeface="Berlin Sans FB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28600" y="2286000"/>
            <a:ext cx="1957320" cy="108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Lucida Bright"/>
              </a:rPr>
              <a:t>Sail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Lucida Bright"/>
              <a:ea typeface="Lucida Bright"/>
            </a:endParaRPr>
          </a:p>
        </p:txBody>
      </p:sp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 rot="20794800">
            <a:off x="0" y="914040"/>
            <a:ext cx="816768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me see what Paradise Resort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as to offer you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 rot="831600">
            <a:off x="5029200" y="2438280"/>
            <a:ext cx="3828960" cy="3829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 rot="20691600">
            <a:off x="456840" y="35053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5:03:38Z</dcterms:created>
  <dc:creator>jmmachen</dc:creator>
  <dc:description/>
  <dc:language>en-US</dc:language>
  <cp:lastModifiedBy>rjohnson</cp:lastModifiedBy>
  <dcterms:modified xsi:type="dcterms:W3CDTF">2009-10-01T15:10:11Z</dcterms:modified>
  <cp:revision>6</cp:revision>
  <dc:subject/>
  <dc:title>Slide 1</dc:title>
</cp:coreProperties>
</file>